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64334918448069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7</c:v>
                </c:pt>
                <c:pt idx="1">
                  <c:v>3</c:v>
                </c:pt>
                <c:pt idx="2">
                  <c:v>13</c:v>
                </c:pt>
                <c:pt idx="3">
                  <c:v>8</c:v>
                </c:pt>
                <c:pt idx="4">
                  <c:v>5</c:v>
                </c:pt>
                <c:pt idx="5">
                  <c:v>6</c:v>
                </c:pt>
                <c:pt idx="6">
                  <c:v>6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08130081300813</c:v>
                </c:pt>
                <c:pt idx="1">
                  <c:v>4.97560975609756</c:v>
                </c:pt>
                <c:pt idx="2">
                  <c:v>13.8211382113821</c:v>
                </c:pt>
                <c:pt idx="3">
                  <c:v>12.7154471544715</c:v>
                </c:pt>
                <c:pt idx="4">
                  <c:v>6.63414634146341</c:v>
                </c:pt>
                <c:pt idx="5">
                  <c:v>6.63414634146341</c:v>
                </c:pt>
                <c:pt idx="6">
                  <c:v>3.31707317073171</c:v>
                </c:pt>
                <c:pt idx="7">
                  <c:v>5.52845528455285</c:v>
                </c:pt>
                <c:pt idx="8">
                  <c:v>1.10569105691057</c:v>
                </c:pt>
                <c:pt idx="9">
                  <c:v>1.38211382113821</c:v>
                </c:pt>
                <c:pt idx="10">
                  <c:v>1.38211382113821</c:v>
                </c:pt>
                <c:pt idx="11">
                  <c:v>1.10569105691057</c:v>
                </c:pt>
                <c:pt idx="12">
                  <c:v>0.552845528455285</c:v>
                </c:pt>
                <c:pt idx="13">
                  <c:v>0.552845528455285</c:v>
                </c:pt>
                <c:pt idx="14">
                  <c:v>1.10569105691057</c:v>
                </c:pt>
                <c:pt idx="15">
                  <c:v>1.10569105691057</c:v>
                </c:pt>
              </c:numCache>
            </c:numRef>
          </c:val>
        </c:ser>
        <c:gapWidth val="100"/>
        <c:overlap val="0"/>
        <c:axId val="42928171"/>
        <c:axId val="50173001"/>
      </c:barChart>
      <c:catAx>
        <c:axId val="429281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3001"/>
        <c:crossesAt val="0"/>
        <c:auto val="1"/>
        <c:lblAlgn val="ctr"/>
        <c:lblOffset val="100"/>
        <c:noMultiLvlLbl val="0"/>
      </c:catAx>
      <c:valAx>
        <c:axId val="50173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81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8" spc="-1" strike="noStrike">
                <a:solidFill>
                  <a:srgbClr val="000000"/>
                </a:solidFill>
                <a:latin typeface="Arial"/>
              </a:defRPr>
            </a:pPr>
            <a:r>
              <a:rPr b="1" sz="1498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497666770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0</c:v>
                </c:pt>
                <c:pt idx="2">
                  <c:v>5</c:v>
                </c:pt>
                <c:pt idx="3">
                  <c:v>6</c:v>
                </c:pt>
                <c:pt idx="4">
                  <c:v>6</c:v>
                </c:pt>
                <c:pt idx="5">
                  <c:v>9</c:v>
                </c:pt>
                <c:pt idx="6">
                  <c:v>4</c:v>
                </c:pt>
                <c:pt idx="7">
                  <c:v>7</c:v>
                </c:pt>
                <c:pt idx="8">
                  <c:v>2</c:v>
                </c:pt>
                <c:pt idx="9">
                  <c:v>3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0243902439024</c:v>
                </c:pt>
                <c:pt idx="1">
                  <c:v>4.82926829268293</c:v>
                </c:pt>
                <c:pt idx="2">
                  <c:v>13.4146341463415</c:v>
                </c:pt>
                <c:pt idx="3">
                  <c:v>12.3414634146341</c:v>
                </c:pt>
                <c:pt idx="4">
                  <c:v>6.4390243902439</c:v>
                </c:pt>
                <c:pt idx="5">
                  <c:v>6.4390243902439</c:v>
                </c:pt>
                <c:pt idx="6">
                  <c:v>3.21951219512195</c:v>
                </c:pt>
                <c:pt idx="7">
                  <c:v>5.36585365853658</c:v>
                </c:pt>
                <c:pt idx="8">
                  <c:v>1.07317073170732</c:v>
                </c:pt>
                <c:pt idx="9">
                  <c:v>1.34146341463415</c:v>
                </c:pt>
                <c:pt idx="10">
                  <c:v>1.34146341463415</c:v>
                </c:pt>
                <c:pt idx="11">
                  <c:v>1.07317073170732</c:v>
                </c:pt>
                <c:pt idx="12">
                  <c:v>0.536585365853659</c:v>
                </c:pt>
                <c:pt idx="13">
                  <c:v>0.536585365853659</c:v>
                </c:pt>
                <c:pt idx="14">
                  <c:v>1.07317073170732</c:v>
                </c:pt>
                <c:pt idx="15">
                  <c:v>1.07317073170732</c:v>
                </c:pt>
              </c:numCache>
            </c:numRef>
          </c:val>
        </c:ser>
        <c:gapWidth val="100"/>
        <c:overlap val="0"/>
        <c:axId val="56271020"/>
        <c:axId val="24500728"/>
      </c:barChart>
      <c:catAx>
        <c:axId val="562710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0728"/>
        <c:crossesAt val="0"/>
        <c:auto val="1"/>
        <c:lblAlgn val="ctr"/>
        <c:lblOffset val="100"/>
        <c:noMultiLvlLbl val="0"/>
      </c:catAx>
      <c:valAx>
        <c:axId val="24500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710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392800141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0345805994"/>
          <c:y val="0.209223847019123"/>
          <c:w val="0.959966306082639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8</c:v>
                </c:pt>
                <c:pt idx="3">
                  <c:v>2</c:v>
                </c:pt>
                <c:pt idx="4">
                  <c:v>6</c:v>
                </c:pt>
                <c:pt idx="5">
                  <c:v>3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2</c:v>
                </c:pt>
                <c:pt idx="10">
                  <c:v>0</c:v>
                </c:pt>
                <c:pt idx="11">
                  <c:v>0</c:v>
                </c:pt>
                <c:pt idx="12">
                  <c:v>3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4552845528455</c:v>
                </c:pt>
                <c:pt idx="1">
                  <c:v>3.14634146341463</c:v>
                </c:pt>
                <c:pt idx="2">
                  <c:v>8.73983739837398</c:v>
                </c:pt>
                <c:pt idx="3">
                  <c:v>8.04065040650407</c:v>
                </c:pt>
                <c:pt idx="4">
                  <c:v>4.19512195121951</c:v>
                </c:pt>
                <c:pt idx="5">
                  <c:v>4.19512195121951</c:v>
                </c:pt>
                <c:pt idx="6">
                  <c:v>2.09756097560976</c:v>
                </c:pt>
                <c:pt idx="7">
                  <c:v>3.49593495934959</c:v>
                </c:pt>
                <c:pt idx="8">
                  <c:v>0.699186991869919</c:v>
                </c:pt>
                <c:pt idx="9">
                  <c:v>0.873983739837398</c:v>
                </c:pt>
                <c:pt idx="10">
                  <c:v>0.873983739837398</c:v>
                </c:pt>
                <c:pt idx="11">
                  <c:v>0.699186991869919</c:v>
                </c:pt>
                <c:pt idx="12">
                  <c:v>0.349593495934959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.699186991869919</c:v>
                </c:pt>
              </c:numCache>
            </c:numRef>
          </c:val>
        </c:ser>
        <c:gapWidth val="100"/>
        <c:overlap val="0"/>
        <c:axId val="28749635"/>
        <c:axId val="11309743"/>
      </c:barChart>
      <c:catAx>
        <c:axId val="287496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9743"/>
        <c:crossesAt val="0"/>
        <c:auto val="1"/>
        <c:lblAlgn val="ctr"/>
        <c:lblOffset val="100"/>
        <c:noMultiLvlLbl val="0"/>
      </c:catAx>
      <c:valAx>
        <c:axId val="11309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496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0196435714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875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6</c:v>
                </c:pt>
                <c:pt idx="3">
                  <c:v>4</c:v>
                </c:pt>
                <c:pt idx="4">
                  <c:v>1</c:v>
                </c:pt>
                <c:pt idx="5">
                  <c:v>7</c:v>
                </c:pt>
                <c:pt idx="6">
                  <c:v>0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5820895522388</c:v>
                </c:pt>
                <c:pt idx="1">
                  <c:v>5.58208955223881</c:v>
                </c:pt>
                <c:pt idx="2">
                  <c:v>15.7313432835821</c:v>
                </c:pt>
                <c:pt idx="3">
                  <c:v>14.7164179104478</c:v>
                </c:pt>
                <c:pt idx="4">
                  <c:v>6.59701492537313</c:v>
                </c:pt>
                <c:pt idx="5">
                  <c:v>6.59701492537313</c:v>
                </c:pt>
                <c:pt idx="6">
                  <c:v>2.02985074626866</c:v>
                </c:pt>
                <c:pt idx="7">
                  <c:v>6.5970149253731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1492537313433</c:v>
                </c:pt>
                <c:pt idx="15">
                  <c:v>1.77611940298507</c:v>
                </c:pt>
              </c:numCache>
            </c:numRef>
          </c:val>
        </c:ser>
        <c:gapWidth val="100"/>
        <c:overlap val="0"/>
        <c:axId val="90905784"/>
        <c:axId val="67666553"/>
      </c:barChart>
      <c:catAx>
        <c:axId val="9090578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6553"/>
        <c:crossesAt val="0"/>
        <c:auto val="1"/>
        <c:lblAlgn val="ctr"/>
        <c:lblOffset val="100"/>
        <c:noMultiLvlLbl val="0"/>
      </c:catAx>
      <c:valAx>
        <c:axId val="67666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578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2444424723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7936282558"/>
          <c:y val="0.209223847019123"/>
          <c:w val="0.959976926831433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8</c:v>
                </c:pt>
                <c:pt idx="2">
                  <c:v>13</c:v>
                </c:pt>
                <c:pt idx="3">
                  <c:v>6</c:v>
                </c:pt>
                <c:pt idx="4">
                  <c:v>5</c:v>
                </c:pt>
                <c:pt idx="5">
                  <c:v>5</c:v>
                </c:pt>
                <c:pt idx="6">
                  <c:v>4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14179104477612</c:v>
                </c:pt>
                <c:pt idx="1">
                  <c:v>5.41791044776119</c:v>
                </c:pt>
                <c:pt idx="2">
                  <c:v>15.2686567164179</c:v>
                </c:pt>
                <c:pt idx="3">
                  <c:v>14.2835820895522</c:v>
                </c:pt>
                <c:pt idx="4">
                  <c:v>6.40298507462687</c:v>
                </c:pt>
                <c:pt idx="5">
                  <c:v>6.40298507462687</c:v>
                </c:pt>
                <c:pt idx="6">
                  <c:v>1.97014925373134</c:v>
                </c:pt>
                <c:pt idx="7">
                  <c:v>6.402985074626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85074626865672</c:v>
                </c:pt>
                <c:pt idx="15">
                  <c:v>1.72388059701493</c:v>
                </c:pt>
              </c:numCache>
            </c:numRef>
          </c:val>
        </c:ser>
        <c:gapWidth val="100"/>
        <c:overlap val="0"/>
        <c:axId val="70842198"/>
        <c:axId val="20337068"/>
      </c:barChart>
      <c:catAx>
        <c:axId val="708421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37068"/>
        <c:crossesAt val="0"/>
        <c:auto val="1"/>
        <c:lblAlgn val="ctr"/>
        <c:lblOffset val="100"/>
        <c:noMultiLvlLbl val="0"/>
      </c:catAx>
      <c:valAx>
        <c:axId val="20337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421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AJT  MAIO VESPERTINO</a:t>
            </a:r>
          </a:p>
        </c:rich>
      </c:tx>
      <c:layout>
        <c:manualLayout>
          <c:xMode val="edge"/>
          <c:yMode val="edge"/>
          <c:x val="0.42438113861606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0</c:v>
                </c:pt>
                <c:pt idx="2">
                  <c:v>10</c:v>
                </c:pt>
                <c:pt idx="3">
                  <c:v>6</c:v>
                </c:pt>
                <c:pt idx="4">
                  <c:v>4</c:v>
                </c:pt>
                <c:pt idx="5">
                  <c:v>4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2014925373134</c:v>
                </c:pt>
                <c:pt idx="1">
                  <c:v>3.20149253731343</c:v>
                </c:pt>
                <c:pt idx="2">
                  <c:v>9.02238805970149</c:v>
                </c:pt>
                <c:pt idx="3">
                  <c:v>8.44029850746269</c:v>
                </c:pt>
                <c:pt idx="4">
                  <c:v>3.78358208955224</c:v>
                </c:pt>
                <c:pt idx="5">
                  <c:v>3.78358208955224</c:v>
                </c:pt>
                <c:pt idx="6">
                  <c:v>1.16417910447761</c:v>
                </c:pt>
                <c:pt idx="7">
                  <c:v>3.78358208955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582089552238806</c:v>
                </c:pt>
                <c:pt idx="15">
                  <c:v>1.01865671641791</c:v>
                </c:pt>
              </c:numCache>
            </c:numRef>
          </c:val>
        </c:ser>
        <c:gapWidth val="100"/>
        <c:overlap val="0"/>
        <c:axId val="69400079"/>
        <c:axId val="5946741"/>
      </c:barChart>
      <c:catAx>
        <c:axId val="694000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741"/>
        <c:crossesAt val="0"/>
        <c:auto val="1"/>
        <c:lblAlgn val="ctr"/>
        <c:lblOffset val="100"/>
        <c:noMultiLvlLbl val="0"/>
      </c:catAx>
      <c:valAx>
        <c:axId val="5946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000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03" spc="-1" strike="noStrike">
                <a:solidFill>
                  <a:srgbClr val="000000"/>
                </a:solidFill>
                <a:latin typeface="Arial"/>
              </a:defRPr>
            </a:pPr>
            <a:r>
              <a:rPr b="1" sz="1403" spc="-1" strike="noStrike">
                <a:solidFill>
                  <a:srgbClr val="000000"/>
                </a:solidFill>
                <a:latin typeface="Arial"/>
              </a:rPr>
              <a:t>EEAJT MARÇO NOTURNO</a:t>
            </a:r>
          </a:p>
        </c:rich>
      </c:tx>
      <c:layout>
        <c:manualLayout>
          <c:xMode val="edge"/>
          <c:yMode val="edge"/>
          <c:x val="0.306341940358206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10</c:v>
                </c:pt>
                <c:pt idx="3">
                  <c:v>6</c:v>
                </c:pt>
                <c:pt idx="4">
                  <c:v>3</c:v>
                </c:pt>
                <c:pt idx="5">
                  <c:v>1</c:v>
                </c:pt>
                <c:pt idx="6">
                  <c:v>3</c:v>
                </c:pt>
                <c:pt idx="7">
                  <c:v>6</c:v>
                </c:pt>
                <c:pt idx="8">
                  <c:v>2</c:v>
                </c:pt>
                <c:pt idx="9">
                  <c:v>5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5263157894737</c:v>
                </c:pt>
                <c:pt idx="1">
                  <c:v>3.55263157894737</c:v>
                </c:pt>
                <c:pt idx="2">
                  <c:v>14.9210526315789</c:v>
                </c:pt>
                <c:pt idx="3">
                  <c:v>12.7894736842105</c:v>
                </c:pt>
                <c:pt idx="4">
                  <c:v>9.23684210526316</c:v>
                </c:pt>
                <c:pt idx="5">
                  <c:v>9.23684210526316</c:v>
                </c:pt>
                <c:pt idx="6">
                  <c:v>9.23684210526316</c:v>
                </c:pt>
                <c:pt idx="7">
                  <c:v>6.39473684210526</c:v>
                </c:pt>
                <c:pt idx="8">
                  <c:v>2.84210526315789</c:v>
                </c:pt>
                <c:pt idx="9">
                  <c:v>3.19736842105263</c:v>
                </c:pt>
                <c:pt idx="10">
                  <c:v>3.19736842105263</c:v>
                </c:pt>
                <c:pt idx="11">
                  <c:v>1.42105263157895</c:v>
                </c:pt>
                <c:pt idx="12">
                  <c:v>1.06578947368421</c:v>
                </c:pt>
                <c:pt idx="13">
                  <c:v>0.35526315789473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4669074"/>
        <c:axId val="53021364"/>
      </c:barChart>
      <c:catAx>
        <c:axId val="146690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1364"/>
        <c:crossesAt val="0"/>
        <c:auto val="1"/>
        <c:lblAlgn val="ctr"/>
        <c:lblOffset val="100"/>
        <c:noMultiLvlLbl val="0"/>
      </c:catAx>
      <c:valAx>
        <c:axId val="53021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90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8" spc="-1" strike="noStrike">
                <a:solidFill>
                  <a:srgbClr val="000000"/>
                </a:solidFill>
                <a:latin typeface="Arial"/>
              </a:defRPr>
            </a:pPr>
            <a:r>
              <a:rPr b="1" sz="1498" spc="-1" strike="noStrike">
                <a:solidFill>
                  <a:srgbClr val="000000"/>
                </a:solidFill>
                <a:latin typeface="Arial"/>
              </a:rPr>
              <a:t>EEAJT ABRIL 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5</c:v>
                </c:pt>
                <c:pt idx="3">
                  <c:v>9</c:v>
                </c:pt>
                <c:pt idx="4">
                  <c:v>6</c:v>
                </c:pt>
                <c:pt idx="5">
                  <c:v>9</c:v>
                </c:pt>
                <c:pt idx="6">
                  <c:v>0</c:v>
                </c:pt>
                <c:pt idx="7">
                  <c:v>9</c:v>
                </c:pt>
                <c:pt idx="8">
                  <c:v>0</c:v>
                </c:pt>
                <c:pt idx="9">
                  <c:v>3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9473684210526</c:v>
                </c:pt>
                <c:pt idx="1">
                  <c:v>2.89473684210526</c:v>
                </c:pt>
                <c:pt idx="2">
                  <c:v>12.1578947368421</c:v>
                </c:pt>
                <c:pt idx="3">
                  <c:v>10.4210526315789</c:v>
                </c:pt>
                <c:pt idx="4">
                  <c:v>7.52631578947368</c:v>
                </c:pt>
                <c:pt idx="5">
                  <c:v>7.52631578947368</c:v>
                </c:pt>
                <c:pt idx="6">
                  <c:v>7.52631578947368</c:v>
                </c:pt>
                <c:pt idx="7">
                  <c:v>5.21052631578947</c:v>
                </c:pt>
                <c:pt idx="8">
                  <c:v>2.31578947368421</c:v>
                </c:pt>
                <c:pt idx="9">
                  <c:v>2.60526315789474</c:v>
                </c:pt>
                <c:pt idx="10">
                  <c:v>2.60526315789474</c:v>
                </c:pt>
                <c:pt idx="11">
                  <c:v>1.15789473684211</c:v>
                </c:pt>
                <c:pt idx="12">
                  <c:v>0.868421052631579</c:v>
                </c:pt>
                <c:pt idx="13">
                  <c:v>0.28947368421052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2195978"/>
        <c:axId val="40486869"/>
      </c:barChart>
      <c:catAx>
        <c:axId val="921959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86869"/>
        <c:crossesAt val="0"/>
        <c:auto val="1"/>
        <c:lblAlgn val="ctr"/>
        <c:lblOffset val="100"/>
        <c:noMultiLvlLbl val="0"/>
      </c:catAx>
      <c:valAx>
        <c:axId val="40486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959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AJT MAIO NOTURNO</a:t>
            </a:r>
          </a:p>
        </c:rich>
      </c:tx>
      <c:layout>
        <c:manualLayout>
          <c:xMode val="edge"/>
          <c:yMode val="edge"/>
          <c:x val="0.440849253135943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59243827845"/>
          <c:y val="0.209197700574856"/>
          <c:w val="0.959930854128806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9</c:v>
                </c:pt>
                <c:pt idx="5">
                  <c:v>6</c:v>
                </c:pt>
                <c:pt idx="6">
                  <c:v>0</c:v>
                </c:pt>
                <c:pt idx="7">
                  <c:v>6</c:v>
                </c:pt>
                <c:pt idx="8">
                  <c:v>2</c:v>
                </c:pt>
                <c:pt idx="9">
                  <c:v>4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8859649122807</c:v>
                </c:pt>
                <c:pt idx="1">
                  <c:v>1.8859649122807</c:v>
                </c:pt>
                <c:pt idx="2">
                  <c:v>7.92105263157895</c:v>
                </c:pt>
                <c:pt idx="3">
                  <c:v>6.78947368421053</c:v>
                </c:pt>
                <c:pt idx="4">
                  <c:v>4.90350877192982</c:v>
                </c:pt>
                <c:pt idx="5">
                  <c:v>4.90350877192982</c:v>
                </c:pt>
                <c:pt idx="6">
                  <c:v>4.90350877192982</c:v>
                </c:pt>
                <c:pt idx="7">
                  <c:v>3.39473684210526</c:v>
                </c:pt>
                <c:pt idx="8">
                  <c:v>1.50877192982456</c:v>
                </c:pt>
                <c:pt idx="9">
                  <c:v>1.69736842105263</c:v>
                </c:pt>
                <c:pt idx="10">
                  <c:v>1.69736842105263</c:v>
                </c:pt>
                <c:pt idx="11">
                  <c:v>0.754385964912281</c:v>
                </c:pt>
                <c:pt idx="12">
                  <c:v>0.56578947368421</c:v>
                </c:pt>
                <c:pt idx="13">
                  <c:v>0.1885964912280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1561329"/>
        <c:axId val="83974154"/>
      </c:barChart>
      <c:catAx>
        <c:axId val="615613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4154"/>
        <c:crossesAt val="0"/>
        <c:auto val="1"/>
        <c:lblAlgn val="ctr"/>
        <c:lblOffset val="100"/>
        <c:noMultiLvlLbl val="0"/>
      </c:catAx>
      <c:valAx>
        <c:axId val="83974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6132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4E1-1FB9-4C81-8A14-2F3AAFB2EF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71C-0A56-4FDE-89B9-9C39EF11AF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392E-8FD5-4BB9-9849-F972335515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63A-8B60-4821-9417-9D3269ADEB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706-757B-4D25-B221-6718FD521C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95B0-EC56-4949-90A6-62C4EB83E66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068D-6602-47C5-A888-D4821B4879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C0E-86E3-465A-A9CC-AE491B971A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A6A-059D-4C5D-A584-768097D0834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2FB-F77B-4683-BA85-B72C46C7491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6BC8-8D05-44DF-8CF7-0A3D7BC2E48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64C-7287-4037-90DB-B69CA0280E2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AC77-D390-4B30-88C2-CD0BEEC6106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394-89B6-409D-8770-6E9D81D6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42F-0992-4C73-AE33-3379C44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965-F95E-4AF0-A239-00FE9F7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6BE-C92B-4A2D-9FA7-9FD76645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073-D8B4-439A-B8B3-33FA0B2A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24DA-FBF8-46AF-B292-C3777A46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E66E-3930-46F4-8EB3-14CBEE0E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FB26-BA9D-4A7A-80D2-21B71F8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09C-36A0-4D61-9C44-D3AFDB2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867-4D61-431E-9D7C-C4E721F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A67-19AA-4A75-862D-80F4026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255-7066-4FA4-8861-20CCAFF9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51C5-2BB2-4F85-A9C7-CD5418D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6124-0EFD-480A-B858-F833C6A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DBFA-FCBD-4504-9A2E-65CD853A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DEE-E5B3-4777-8E04-F323E5E5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3F8-DFD6-47A8-9491-B711C73B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E10C0-85F3-49A0-8C06-A7136F4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6057E-389C-423D-B760-ECF6487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25F2D-FD97-4006-8070-146246A9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90305-52B7-41B8-94DA-559D4E6D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42E61-62A3-467A-B5D8-20283B6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9E2-B48B-4194-AF3A-C3C014BF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2EBAF-0FDC-4289-BC5B-CF7E3B4A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75ACF-D8B4-4CE3-99BD-15D7EA4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51444-3BE1-4389-AB96-EC24787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9B5F4-4B10-44A4-B533-AAF9487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73741-C707-4C54-B1FB-FA60C4A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EAD1-1A7C-40AC-85DF-EE46B1EB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13BC3-D915-4951-9E4A-6DC868E3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0AE7D-E420-4E68-B887-6EC9401B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AD87F-52C3-4D58-9EDB-E1D18AC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CFF0F-16FF-4290-91F1-DCE3342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D0C-608E-4BDD-A8B9-D8DC7A0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76622-017E-4334-BACD-2719EBE6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9CBF3-F607-4D0C-BBAD-F2B493C9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0DF12-A0EA-4AFF-877F-CC85A397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F4AB7-9AAE-4B30-B249-4AE6291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E9F86-E3ED-431B-8719-EB19E76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9975F-F181-4289-82BB-68DF069B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783DB-7449-4676-A14E-07072AC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5622B-1E47-4402-A07A-964FDF08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8E94A-9392-4D0A-8F6A-A2C99983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7A4DB-9655-414E-873B-6AC9B168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F8C-7BE3-42ED-B300-4F75539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13CA5-F5E0-4C1A-A022-B9FED23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9F10C-D422-4C76-A6F5-4886BDE0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C1843-E509-4507-B2B3-AA12D967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0AA4E-1D8E-49D2-BBBC-D1F3F8D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FA8DA-9E1A-4E0E-BF85-A03B1C0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C4C67-5308-4B43-8C13-58A38FA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71AFB-7EBD-4981-AFC9-1ED49D26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695CB-960F-4DBD-A0E6-9CCF2BC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9FB56-1BC0-48CA-81A7-5700324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8028C-7E8F-4A6A-8B2E-53795F63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1C3-F1B9-4CB6-BADB-EE0BC9B8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5B088-19D0-4DCF-9557-11BE52A7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F363-E217-4676-B435-08253B6E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CAF4-886D-4FB1-B77C-82713BF6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6E10-C4AA-4AD3-A006-46F17821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DF7F-99D9-46CE-B2EA-3FDB701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7B6B-BBBB-43B4-9A0A-0A9C8EB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BCE6-2C8B-45E5-B468-DAC4DBCD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BC5C-8127-43C5-806B-E434A0A1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23B1-9B30-4AC7-9B94-2705819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BED4-9CDE-4360-87DD-29F5BCD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D78-59E0-4205-A6F0-5899D71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D7E8-F1D3-4383-834C-CACA0548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8B77-16AB-45CD-B2E0-FFF54B1D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8642-10CA-4D18-B1D0-1118040C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6D049-E641-433C-8CB1-6F1ED714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C38C2-4195-493F-92B6-5DF714B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1BAA2-2270-42D8-8199-9313BC18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46DDE-F07C-49DE-8302-55BF872E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55574-AAC1-4AE3-9E33-F3670FD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C70AF-913A-417F-99E8-7236B79B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D009A-DA6D-419B-B34E-ACF61C6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85A-13BE-4004-B967-CF3751F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B920B-30FC-47E3-BD1B-4A1A1EF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905DE-D8CF-4715-9F2E-00EF665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B958E-BC84-446D-8524-6338E6A1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59F13-278F-44AA-8F2C-CD33B29C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A8AD4-48A3-466A-A678-123B0DB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13F09-8E6A-450C-8F1C-5C001A14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B2BE6-9EE9-4942-858A-2C18BD0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BD9E-69F4-4DFD-90EA-07DBDDD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8605-D60F-45DE-AA2C-A1C58B8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EF9A-B324-401F-8C9B-31D4B79F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A16-C363-4FD1-8B0C-D803883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3005A-564F-4813-B4EC-07D3D2F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9DAE6-D14F-443C-9AB2-0A6D860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58C80-117A-4CCE-A73A-83FA68C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FC04-FB75-41FC-9288-F219CA0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F4EA4-808F-421A-8BAA-E7BE874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65DD4-8852-45E4-9B68-343F1E74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4DC6-63F0-4866-A1C8-F20117EE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AFEA-1AEB-4607-8B66-2D5A2EAC5D2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8040-43D5-4E1E-8BE2-DE5B8D869BEA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4DBD-A17D-4BAC-B78D-D9109F27E9E7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29BE-28B9-4508-8C26-B22E71BD2CC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EDA-F512-4840-8E0D-53DDE4F6A48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4CAA-8655-417B-8043-98E0F1D49C9D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A61-FF3D-40C3-96D1-4A1E9BC98493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B8E-DECA-46CF-BA66-CA5AAE7619F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chart" Target="../charts/chart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41032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775f55"/>
                </a:solidFill>
                <a:latin typeface="Tw Cen MT"/>
              </a:rPr>
              <a:t>E. E. ANGELINA JAIME TEBET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571400"/>
            <a:ext cx="36165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500120"/>
            <a:ext cx="361764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643040"/>
            <a:ext cx="9144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642680"/>
            <a:ext cx="3616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571760"/>
            <a:ext cx="361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0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2680"/>
            <a:ext cx="3616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Organização e alimentação página WIKI da esco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Curso Básico de informática e Tecnologias  para docen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4552920" y="1487520"/>
            <a:ext cx="459756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640" y="1714680"/>
            <a:ext cx="361656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e Tecnologias  para dis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TV Escola - analise e divulgação junto a do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643040"/>
            <a:ext cx="36165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?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ADRIANA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421320" y="14292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5"/>
          <p:cNvGraphicFramePr/>
          <p:nvPr/>
        </p:nvGraphicFramePr>
        <p:xfrm>
          <a:off x="2411280" y="4508640"/>
          <a:ext cx="4319640" cy="164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08640"/>
                    <a:ext cx="4319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0" y="128592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5"/>
          <p:cNvGraphicFramePr/>
          <p:nvPr/>
        </p:nvGraphicFramePr>
        <p:xfrm>
          <a:off x="2484360" y="4581360"/>
          <a:ext cx="4319640" cy="16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581360"/>
                    <a:ext cx="4319640" cy="16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0" y="114300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5"/>
          <p:cNvGraphicFramePr/>
          <p:nvPr/>
        </p:nvGraphicFramePr>
        <p:xfrm>
          <a:off x="2484360" y="4508640"/>
          <a:ext cx="4464000" cy="169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508640"/>
                    <a:ext cx="446400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285920" y="1643040"/>
            <a:ext cx="6337080" cy="4651920"/>
            <a:chOff x="128592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222280" y="5530680"/>
              <a:ext cx="5400720" cy="764280"/>
              <a:chOff x="222228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22228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301428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66228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ebddc3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510192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67828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285920" y="1643040"/>
              <a:ext cx="6049800" cy="3671280"/>
              <a:chOff x="128592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79864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868480" y="3818880"/>
                <a:ext cx="3710520" cy="1495440"/>
              </a:xfrm>
              <a:custGeom>
                <a:avLst/>
                <a:gdLst>
                  <a:gd name="textAreaLeft" fmla="*/ 649080 w 3710520"/>
                  <a:gd name="textAreaRight" fmla="*/ 2690280 w 371052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-2682296"/>
                    <a:lnTo>
                      <a:pt x="21168" y="7200"/>
                    </a:lnTo>
                    <a:lnTo>
                      <a:pt x="17278" y="0"/>
                    </a:lnTo>
                    <a:lnTo>
                      <a:pt x="12524" y="7200"/>
                    </a:lnTo>
                    <a:lnTo>
                      <a:pt x="14685" y="7200"/>
                    </a:lnTo>
                    <a:arcTo wR="7559" hR="21600" stAng="2717704" swAng="2324676"/>
                    <a:lnTo>
                      <a:pt x="9720" y="20698"/>
                    </a:lnTo>
                    <a:arcTo wR="7559" hR="21600" stAng="5757620" swAng="5042380"/>
                    <a:close/>
                  </a:path>
                  <a:path fill="darkenLess"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357620"/>
                    <a:lnTo>
                      <a:pt x="9720" y="20698"/>
                    </a:lnTo>
                    <a:arcTo wR="7559" hR="21600" stAng="5757620" swAng="5042380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28592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38608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66220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24296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44924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16860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23664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37452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CARLOS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0" name="Object 5"/>
          <p:cNvGraphicFramePr/>
          <p:nvPr/>
        </p:nvGraphicFramePr>
        <p:xfrm>
          <a:off x="2411280" y="4581360"/>
          <a:ext cx="4429080" cy="16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42908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0" y="1143000"/>
          <a:ext cx="9144000" cy="3244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5"/>
          <p:cNvGraphicFramePr/>
          <p:nvPr/>
        </p:nvGraphicFramePr>
        <p:xfrm>
          <a:off x="2411280" y="4581360"/>
          <a:ext cx="4392720" cy="167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39272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4"/>
          <p:cNvGraphicFramePr/>
          <p:nvPr/>
        </p:nvGraphicFramePr>
        <p:xfrm>
          <a:off x="0" y="114300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2411280" y="4581360"/>
          <a:ext cx="4248360" cy="161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24836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IVAIR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7072200" y="357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8" name="Object 5"/>
          <p:cNvGraphicFramePr/>
          <p:nvPr/>
        </p:nvGraphicFramePr>
        <p:xfrm>
          <a:off x="2340000" y="4508640"/>
          <a:ext cx="4392720" cy="16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4508640"/>
                    <a:ext cx="439272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2556000" y="4653000"/>
          <a:ext cx="4176720" cy="158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4653000"/>
                    <a:ext cx="41767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2484360" y="4724280"/>
          <a:ext cx="3960720" cy="15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24280"/>
                    <a:ext cx="39607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5"/>
          <p:cNvGraphicFramePr/>
          <p:nvPr/>
        </p:nvGraphicFramePr>
        <p:xfrm>
          <a:off x="0" y="121428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964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3143160" y="1959120"/>
            <a:ext cx="285768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360" y="15714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sendo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7140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9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lanejamento junto à coordenação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360" y="500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5"/>
          <p:cNvGrpSpPr/>
          <p:nvPr/>
        </p:nvGrpSpPr>
        <p:grpSpPr>
          <a:xfrm>
            <a:off x="1258920" y="1714680"/>
            <a:ext cx="6670800" cy="4162320"/>
            <a:chOff x="1258920" y="1714680"/>
            <a:chExt cx="6670800" cy="4162320"/>
          </a:xfrm>
        </p:grpSpPr>
        <p:pic>
          <p:nvPicPr>
            <p:cNvPr id="503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714680"/>
              <a:ext cx="66708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8"/>
            <p:cNvSpPr/>
            <p:nvPr/>
          </p:nvSpPr>
          <p:spPr>
            <a:xfrm>
              <a:off x="2580480" y="3912120"/>
              <a:ext cx="92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4362840" y="4718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331320" y="3485520"/>
              <a:ext cx="92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3441240" y="2252520"/>
              <a:ext cx="184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3317760" y="3323520"/>
              <a:ext cx="307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5839200" y="4556520"/>
              <a:ext cx="7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64304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21384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571400"/>
            <a:ext cx="3616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642680"/>
            <a:ext cx="3880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643040"/>
            <a:ext cx="36176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643040"/>
            <a:ext cx="36176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01:57:50Z</dcterms:modified>
  <cp:revision>277</cp:revision>
  <dc:subject/>
  <dc:title>TECNOLOGIAS NA ESCOLA</dc:title>
</cp:coreProperties>
</file>